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A58-B2A4-4B3D-9433-5EEB0873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4D5-F361-4923-8F44-23416C9D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06B-FBE3-4A4C-9799-19A6079A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260-D9AA-450C-A509-43E00495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22A-82B5-411D-B0CA-077AB489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775-B0AE-4F02-850F-9AAC5E5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41A-58E0-4D5C-A898-4509F580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6D8-9E77-4478-AF3B-75AF4BF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B11-1893-426B-AD9F-AB2F0EE0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80D-08CE-4AEA-8D26-5E799BF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251-01EA-4FBA-97A7-2CF891A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4F9-B66B-48AE-9100-F65C522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5ED-FBB6-425E-B94F-1B34D751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 na Minha Esc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cando de Apre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idias ulliz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u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mera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v – VBDSGBBX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utadores – Na sala de informatica temos 8 computadores, mas não funci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mera Digital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20:40:54Z</dcterms:created>
  <dc:creator>NTE</dc:creator>
  <dc:description/>
  <dc:language>en-US</dc:language>
  <cp:lastModifiedBy>NTE</cp:lastModifiedBy>
  <dcterms:modified xsi:type="dcterms:W3CDTF">2009-05-28T20:41:45Z</dcterms:modified>
  <cp:revision>1</cp:revision>
  <dc:subject/>
  <dc:title>Tecnologia na Minha Escola</dc:title>
</cp:coreProperties>
</file>